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2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E42-AFEC-4BDE-9D2A-24F67120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6DD-3313-4CC9-B364-B89BA31D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827-430F-497F-B1CB-1D608B1D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1C1-AED2-492A-9D02-443DF7C2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275-091E-40F0-869B-5BB94565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882-29A5-477F-8EE0-17E67B49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55A-20A6-4CDB-96BB-49DC7577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76F-CCB3-474D-9AA0-D279E2D8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D1B-50BE-4132-A562-962BDBC8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67F-A02C-4C97-822F-0ABF8075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E2D-BDAC-4255-BAD0-54CAD25D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CEF-5A69-4FCA-8D4E-B7B8AE8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FB7C-F498-4F3F-90BB-2A885A8EF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Y00477_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198144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SY00465_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2361960" cy="2590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2666880" cy="3353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477120" y="5029200"/>
            <a:ext cx="930240" cy="8254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4048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528560" cy="1827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124440" cy="426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4495680"/>
            <a:ext cx="2438280" cy="17528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6232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553080" y="53341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2819520" cy="373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8660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81952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67480" y="4532400"/>
            <a:ext cx="1339920" cy="2325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2880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5257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366840" cy="7412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2438640" cy="396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086600" y="5105520"/>
            <a:ext cx="766800" cy="7142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252520" cy="441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611280" cy="610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10:38:25Z</dcterms:created>
  <dc:creator>Admin</dc:creator>
  <dc:description/>
  <dc:language>en-US</dc:language>
  <cp:lastModifiedBy>Admin</cp:lastModifiedBy>
  <dcterms:modified xsi:type="dcterms:W3CDTF">2011-07-21T11:15:33Z</dcterms:modified>
  <cp:revision>2</cp:revision>
  <dc:subject/>
  <dc:title>Presentación de PowerPoint</dc:title>
</cp:coreProperties>
</file>